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852-6F07-4137-94C2-F3AD7802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E458-B753-4E9C-860A-99F7472A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7AB-CDB5-4FA0-960D-18A63E37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8AF-1AD8-4072-9273-35BAD85F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4F2-506E-4031-ACF1-B701025E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895B-D2B0-4C97-962F-A2644D7F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2070-14E8-4514-8F5D-A515B2C8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6D4-A9E3-4853-927A-AE66BD90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81B4-455E-43BC-B3D4-0A33C46C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3AC0-D60E-447D-8910-65EB02A6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416A-56EE-466C-92EB-B97BFC76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D1BC-5457-49D5-B53C-3A19162C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A831-C552-461C-A279-90C1F1DA88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50440" y="1828800"/>
            <a:ext cx="6022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Number Need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Treat  (NNT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6553080" cy="784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655308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19320" y="3429000"/>
            <a:ext cx="6553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91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91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20120" cy="5410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133720" y="5791320"/>
            <a:ext cx="471168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3483000"/>
            <a:ext cx="6477120" cy="154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4711680" cy="60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295280" y="1143000"/>
            <a:ext cx="6553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6553440" cy="1549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95280" y="1143000"/>
            <a:ext cx="6553440" cy="1752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32767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62720" y="4191120"/>
            <a:ext cx="2286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4267080"/>
            <a:ext cx="990720" cy="129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886200" cy="1419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6553440" cy="1752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6629400" cy="1676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934320" y="51055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553080" cy="1981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2971800"/>
            <a:ext cx="655308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295280" y="3962520"/>
            <a:ext cx="6477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7:05Z</dcterms:modified>
  <cp:revision>207</cp:revision>
  <dc:subject/>
  <dc:title>Slide 1</dc:title>
</cp:coreProperties>
</file>